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44B-D688-4759-8C9D-E0501799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7C5-9854-48FF-B911-DC97FD35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70D1-1AD7-48EB-993A-B9A2931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8812-9707-4652-9215-9A3E82A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8B375-5D70-4F68-8F6F-406EB2B0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5F15D-4DE4-4E90-B153-350DAD7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23F9-00F8-4609-B5B6-4002937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4E38-0FAA-4549-B4A7-3C4E233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098DB-D39F-4A4E-8A7D-AE9CAD8A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9141F-CA39-4117-90A9-74D63526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644EF-EE1A-4311-B5DC-15EA5511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5C3B2-1332-42E3-9CDB-5C57BE2C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663-A465-46FC-A300-35C116B0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E15AF-F2B6-4FCF-B164-857D1F6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BFA6C-9178-494D-835A-B63EE44C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D542D-F236-42DB-BF8F-6B8C1A02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88629-E5C4-406B-B07B-BAF6EDB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1394D-4AAC-4A48-9665-5E675032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96074-1D12-4918-95C1-9B9505F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2162-011B-439C-B77C-F8B0AE5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0EB12-EBAC-4D53-9CF4-714A9C1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78D71-C907-42A3-B839-AC90FDDD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DF10F-0210-4C45-A76B-BC1AFF4F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F36-7ECF-4B2B-B646-A87E4666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F7E67-FB70-48E5-B767-D81DBA77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8D038-C10E-4BAE-847E-DD89BFD8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0ACE-DDB4-4782-9DB0-228EB529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E9B22-DF23-42BE-A862-0DC0A4B3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8C7C-F310-4330-9D31-70DEA23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B8D9D-232F-4623-9239-950C5082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C261-9B41-4EFC-A80C-247F41F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6668B-A35A-408F-BCA2-5BDDA46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C7063-A3DB-4E1A-B523-ACC7C18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1FB05-CB2A-4D33-9A8C-57CB47F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3C66-A094-4BAF-B8C2-6B6EBF38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30EED-C9C1-457D-A998-D89DE780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330B-9CB4-44F1-91CC-70C19395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665AE-E052-4FA7-9C45-72DB5DC5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8A913-69F6-4F5E-AB17-123D8C97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46DED-CEA1-4455-B992-D7574BD5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4F10E-FB87-45D2-9ED0-5ABD0DCA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2339E-4D51-48A7-8544-E71590A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5D211-25D6-4FA9-96AE-A2805128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C130F-F227-47E0-8855-81F5E498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F67FB-6B6F-4C9B-A46A-4AA0E85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D5E-CEBA-4773-B2BA-9EBB5ECC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3F4F5-A953-47F1-B706-6E674F6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DF914-A513-4CE3-A3F8-843FBB29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BFBE9-4A4D-46B3-BA9B-DAAF805F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7A15D-A397-4ECC-94AD-F1ECA2B7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957F3-5A4F-4DFA-BB35-D9D0350E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05917-D66A-4FCD-BB63-81D530D3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2DE9F-94F6-4358-A672-345D7A0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A49BB-C22F-47B5-9F53-51100517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AEF7D-A6DE-4EEB-8E55-F1645AE3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01466-8EA8-4112-B810-08595DD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6C0-7339-4318-8ABA-03084918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5C5C1-0E03-42F3-9D46-B4DE0F7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39D77-950C-42D9-9576-19AD209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B3203-7A1D-4F22-864D-93AF57E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E397E-D278-4D8E-92DF-8487427E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AC455-32C6-4B10-A143-C217E77C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F6A59-431E-44D6-AFB6-F6F0DB4B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4ADBF-DEA4-443B-AF99-0BA21902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3E21D-71FD-4B7B-A640-BAFA729C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77104-2782-405C-8519-66F5760E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EE891-0E81-4C61-B202-BCA3BA33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B3A8-77C0-43A5-8C67-70D142E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5B647-83A8-41EC-9F48-16CAB37A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D260A-8036-499A-A448-81304CD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F1905-33D5-404E-A19E-887CB2F0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48D16-C39E-4E43-9905-2C72768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B7A18-4357-4653-8804-B37B1264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44A46-AE35-45F9-90EB-F98E434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C416C-7C60-4055-B5C0-1A633C6E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C5BAF-7456-43FA-8B53-5C2CC85B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6C714-D988-477B-BC9F-F4EA1B4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A5E48-05BB-4780-80F5-5C905B1F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244-65A4-46F4-A190-3C9354C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9AF89-0B5F-445E-AFA5-7B05E186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16793-17FC-45F6-BF36-4167F6C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C35E5-6FA5-42CE-BF4E-CA58F079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6B683-8F24-4CC7-AD24-1F396916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CF63E-A1DC-4BF5-B064-482A0E0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9046C-8145-489D-8AA9-FF672DB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62BDE-8BE9-4C36-A0BF-D96CD7C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7B847-772D-4242-A8BA-0A5D496C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BB14D-F2EF-4F6B-90C4-EE722A8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C72EB-FE7B-4C20-8A12-FFFBA2C2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882-0E4C-498D-B536-47330FF2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8A664-D9F4-4726-AA2C-8063B2E3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DBB9A-9C6F-455A-AA6F-31243760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CA8C1-A597-4BA3-A171-469C4E4A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A61CC-BA31-472F-9DEF-B1603B9A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551C1-45A1-48CC-B451-35D42F74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DCB4C-2ADB-40C4-A7AA-EE2070B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93F77-745E-46E1-AB70-0D606612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83731-10B8-4578-A7B2-850CC5C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FD25E-1A35-41F5-81F2-F89D335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B4819-84D4-40E2-B1CA-EB020B5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8BE-3E9B-4551-8672-BFC1150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912FB-EE55-4582-8D6D-9EB983D9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A8138-7789-446D-BCD9-CDD53DB5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326A9-6E0C-42D4-920A-A0C0A04D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ACA10-92AB-42A3-9C0C-E0C8306D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36F2B-316E-4D00-A7C6-02DE09A1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5EAA6-184F-4B40-9E27-61C2B544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2A735-2B4D-41D3-9DC7-DCF9D9D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18DE0-B82C-4BD8-A775-AF21114E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034EC-CFF2-4A7E-B82D-76B7C1C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7B6E6-9EE7-4EC5-9825-278537B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4D5-4233-4FB4-A820-F89EB40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C9D1-E763-44A4-8C20-B50B977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0AA33-9CBB-432B-AE77-CB02A94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2B3AF-E91F-437A-8B97-A173B78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360B7-BC3B-4A1B-8881-69A824A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94A33-A561-4960-A4AB-09CA0888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740D2-5996-49F4-AE2D-70DBD0B6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9E648-97F4-4346-BE93-1C13E09D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A0623-50DF-4C38-9956-BB5C02FE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C3F7B-EE51-4805-9B83-E50B56EF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E96B5-C5F7-481D-8A21-9A685105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BD5CB-2301-4D4F-A050-B59CCC9D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D174-2FA8-48A4-B279-FE7E58F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35C1D-ACC1-473E-A100-05361B26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AE50B-B31D-421C-8C89-3D89212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FCF91-065C-4229-8025-F147627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4CB69-89EE-46C0-AB66-53766E2E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EFB69-C3EE-4D71-8096-4645095C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33C29-D050-43D6-9416-6F376B83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70CAA-0DA7-4BE7-B427-0BE32DFD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70E04-546F-4F0A-86FE-EDD2BA5A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ECC6F-B678-4C90-8B4C-1591A1E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69FEB-DD29-4849-8EE3-D59D388F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EBA9-594B-430A-8B48-354F7C7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BE601-43BE-4E57-AE1A-E02CBAE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9A23D-E246-4A65-ABD8-5F29365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B28DA-67EE-4E46-8E09-576581B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38AC7-C497-4C8C-8218-14EEA42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07CE0-5FBC-4938-8A07-8517376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74096-F790-4AB2-973E-1339A09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8C305-C76E-4DFF-BDDA-C176AC18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98C4E-A21F-43B6-87B3-804CFC06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7797E-813F-4F1A-B809-A958286D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D880A-876C-4B51-8AAD-60D3BBD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3AF6-B3BE-41F1-83FF-83BB03CC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7B9EF-8567-4CA5-ADDE-BF8BC143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E5F33-CF14-424E-A7F6-011D17F2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27E01-F91D-4F59-9CA6-EB0C8D3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6E988-CA57-4B3D-9B9A-9EB210D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2BA36-0211-4BB2-B258-6FFECD32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0DBB5-664D-4798-938D-E28F7B8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9AEF2-3A67-4AF7-A5BE-5058CA3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D98D4-F16A-4765-A44F-808D677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F4D016-DC60-4F18-9699-FA9C0D63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35906-4031-4D77-80AC-62324782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A9E-3863-4F4A-BC54-FFC04450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B3A89-EDF3-4825-837A-1F0B1F97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42DB4-C23A-4EE7-9DE7-3E5E1F76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CDFD2-7765-4EE4-A7E6-9618D8F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86EB7-35F6-4B32-B800-2A667A55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74AAE-9878-40EE-AC20-5976AC3D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0ADB2-53EA-430E-86D1-BDF10DD1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EC2FC-8506-405A-BA33-A767368F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39F66-FF58-404A-A219-E1598B6B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252F7-2C44-43FB-B07D-64076FD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61C3D-3F65-4B74-8402-02AD928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6601-C3A0-4C0E-B6D3-BFDD012B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322EA-B426-4319-AA04-83145CC3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BAC7E-2376-4271-BEB6-7A0F7867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11878-19DD-42B5-ABC1-F6B51C8B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8E65-D85F-47BD-A197-50250FE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E36E-69B9-4589-9400-897BB12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0758-9153-4D06-9E07-27A55228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DC93-E76C-4385-9BA3-2165A703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D7A-8300-487B-8431-0AF4501F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D085-D0FC-485C-8F01-60577BB9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BCD9-2CB5-4EE5-ACC6-20457F6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0EAC-1D1D-4807-A219-DD63E92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EF7E-F990-4F03-9821-83CF67C0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6DBD-4A51-4874-BFC4-890BBBF1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9634-3DB5-4EAC-9C23-F5C2CD7A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5824-0626-4DFD-8946-5E13990B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A8DB-A4A9-4175-9309-7C979FA3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8A4E-5859-4C91-B94A-D0E38779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6BFE-9A26-40A8-B61A-4C9D4A3C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106-1492-42C6-90C0-003A4AA6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D8AD-CDA1-4723-8850-7D5F06A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50FF-5E65-4C89-BFD2-BF1603C3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1562-D3A8-4032-BAD2-F241A61F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1E96-C675-457D-8E52-55C44DE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A2E3-32E8-4321-9A51-81B286C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17DE-4CFF-45ED-9E8C-3F9E2A3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3FC2-A5D1-4AED-8D34-94CCFE03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00AC-5A4D-4C1B-A2F6-A9B07C61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BF01-9D0B-40F0-B40A-DE39AE52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C88A-3EA0-4782-8C59-DAE2710E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CF9-E5BC-4393-A253-7853DBA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19A7-CE76-423E-9F8B-B879DB1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F30F-BC4B-4081-ACCA-AA45674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086E-4177-4A24-867F-AA8BB61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EE8E-49B3-4B6F-BC48-592429A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0632C-85DF-4DF5-90B4-DACEC35D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CC01-9311-4C34-A868-E8DD353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6CA52-B638-4D04-BD37-6B3E9D2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ABAB-A62C-42C5-99CA-ECB32C0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7BDB-EA77-4170-A450-FA64262F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6861-1317-4024-B3D6-0345CC0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F18-89A3-4A0C-8462-D492267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0E2E9-C5B1-403B-A1FB-C7F3F783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D2573-7C9C-440D-A0AD-A01A0411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A59D-46FA-488B-87AF-C507373B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3B92-462C-4CA7-9841-373B5E3B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D6B9-21CE-45F8-855C-7CE1E14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E810-6DDA-49FC-BF73-44B6AAE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E1D8-CC3D-43FE-A9FE-FC110C92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A778-0541-4C36-8FD4-05D04BD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08B5-5B6F-4992-9CD7-F82B55C6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C51D0-0549-4B65-8A17-F2025E6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A4F-2E3D-413E-A0F6-A35977A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7A7E-26EC-4AF9-85B2-33352FAA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9DAD-28B5-43C5-B9BD-EBEB9CD2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DC16-25B5-45B0-9A1F-A8C00998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A5337-3E6B-4CE5-955C-CE275703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C736-A8C0-45AE-975E-53015E44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2FF6-CDEC-458F-9E90-FC51F032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9F94D-CBAB-4ADC-8C09-C7ECF14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6C57-3826-4CA9-AF0F-F584657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6C02F-A824-40CF-ABCB-4A74DD44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8148-EFE0-4D00-BFB4-674FB98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9B8-D40A-41E7-80A6-0E26308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FC3E-2A99-4743-93BD-A4DA9D4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05E8B-CB81-48AB-9F78-D3E5059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06D8-1C7D-493A-8D32-E4AF6F8C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8D4A-F25A-4E0E-809F-8682B6C7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9F16-607D-465F-9741-00357578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6B2E-3C6C-4896-91FC-4D51332E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EE5F5-D547-4C92-861E-FD08E75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D39EC-AE0E-4240-8A50-F7FA533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C178-3E5A-4186-A6D8-A41EA85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14C7B-3EF1-4551-AAF1-35781294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330-F7DF-456F-8090-86CFC43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670C0-0E6F-49D6-8EAC-9448EE7C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459ED-8E85-4CBE-A0AE-77337CF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9BF53-C0A3-41D9-981A-EDA2141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6D39-7C42-44E3-8EB1-CC9843C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FFBE3-9701-41C9-A99A-CB15B24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06E9-86DE-4C06-8974-DB8C038C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0CA7-B44C-4161-9165-26A1844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98EEE-4036-449B-A01E-902AF9DB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A2D8-C98A-4E62-8525-832CFA8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FE5B9-593D-4166-A472-6B47BC15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C9A-5073-43C2-964B-976901875F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D39-BC64-482F-85F6-A18E47A0D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1E4-01FC-4B6F-AC9B-7057124A4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F123-26CF-4C75-827B-57180CA18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0AC3-3E6B-4C66-9F85-5D3AE7277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99B-E066-48CA-981A-F6DE4621B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8BB-9E5E-47D8-9D8B-7237F5B99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096-B4DE-45CC-9477-8AB826960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CB89-ACAE-4DA9-AE7C-825142D9F9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E481-BCD2-4D17-A953-AA5E13A4A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3107-B733-4E54-9D15-61AF1ACE3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D7EA-6F77-465F-A38A-3E7A7453E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269-9071-4D11-9951-143100641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BF3-0ED9-40CF-B5E2-1AC12DA12F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FC4-874F-4A84-A400-78D8C7768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722-2F98-474A-83AD-787EEAF35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654-5A42-43A6-B673-74FE8D325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E18-C78C-4132-B10C-BB7759A48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F2F-975B-4D9D-B56A-E11E02213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B73E-129F-4124-AF4D-10E14AAB2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AAD8-CBAD-4780-8A9A-A36714295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B031-72C1-40EF-A4A7-91355D52D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1447-EDE5-4F6E-B1DB-1499E29065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BA3-2132-4F31-8AA0-203149469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05E4-7BE2-4C9A-B243-61508BEFF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BEAC-C869-4157-9F40-66F091236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FC41-6BDA-4D92-8DED-F5AB993BD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5CE-C4E5-43F7-971C-B2AF0EEAE7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B5BC-04D2-4331-BA15-1CA9E97FE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E8A-56A4-4076-952A-D11E834CB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7576-B4F5-406C-8208-E842C2A64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2843-BBAB-4D91-AF4B-4A43D2A48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6F53-C25B-485E-9867-E03E8D66BF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6D41-317F-47D3-AD8D-B6E38522C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D410-8523-46C9-9550-36C031851D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D17-5CF5-465E-B507-9C272A619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3250-2F5E-43D7-948B-A53BC6EAE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9E28-C708-47EE-BF3F-E0B7786865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D39A-DCDA-4DEA-8608-D6A449DA8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CE0-879D-44E3-92D0-A14D692A64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23960" y="2881440"/>
            <a:ext cx="58960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461880" y="1405080"/>
            <a:ext cx="8220240" cy="40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561672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250920" y="3559320"/>
            <a:ext cx="5616360" cy="863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324000" y="2982960"/>
            <a:ext cx="561636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250920" y="4479840"/>
            <a:ext cx="842472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250920" y="4956120"/>
            <a:ext cx="84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8609" descr=""/>
          <p:cNvPicPr/>
          <p:nvPr/>
        </p:nvPicPr>
        <p:blipFill>
          <a:blip r:embed="rId1"/>
          <a:stretch/>
        </p:blipFill>
        <p:spPr>
          <a:xfrm>
            <a:off x="619200" y="1362240"/>
            <a:ext cx="7905600" cy="4133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82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7585" descr=""/>
          <p:cNvPicPr/>
          <p:nvPr/>
        </p:nvPicPr>
        <p:blipFill>
          <a:blip r:embed="rId1"/>
          <a:stretch/>
        </p:blipFill>
        <p:spPr>
          <a:xfrm>
            <a:off x="828720" y="1052640"/>
            <a:ext cx="7486560" cy="218124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7586" descr=""/>
          <p:cNvPicPr/>
          <p:nvPr/>
        </p:nvPicPr>
        <p:blipFill>
          <a:blip r:embed="rId2"/>
          <a:stretch/>
        </p:blipFill>
        <p:spPr>
          <a:xfrm>
            <a:off x="776160" y="3508200"/>
            <a:ext cx="7591680" cy="21528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720720" cy="493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7826400" y="1341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4702320" y="2276640"/>
            <a:ext cx="72072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7870680" y="21906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7"/>
          <a:stretch/>
        </p:blipFill>
        <p:spPr>
          <a:xfrm>
            <a:off x="2297160" y="3933720"/>
            <a:ext cx="72072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8"/>
          <a:stretch/>
        </p:blipFill>
        <p:spPr>
          <a:xfrm>
            <a:off x="5076720" y="3933720"/>
            <a:ext cx="720720" cy="493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9"/>
          <a:stretch/>
        </p:blipFill>
        <p:spPr>
          <a:xfrm>
            <a:off x="7885080" y="378936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0"/>
          <a:stretch/>
        </p:blipFill>
        <p:spPr>
          <a:xfrm>
            <a:off x="2268360" y="4681440"/>
            <a:ext cx="721080" cy="7192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1"/>
          <a:stretch/>
        </p:blipFill>
        <p:spPr>
          <a:xfrm>
            <a:off x="4903920" y="46814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2"/>
          <a:stretch/>
        </p:blipFill>
        <p:spPr>
          <a:xfrm>
            <a:off x="8058240" y="46958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28480" y="1252440"/>
            <a:ext cx="8087040" cy="4353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413532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03280" y="465300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258920" y="515772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580000" y="3919680"/>
            <a:ext cx="309564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796000" y="4451400"/>
            <a:ext cx="30956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966960" y="1019160"/>
            <a:ext cx="7210080" cy="4819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050920" y="4178160"/>
            <a:ext cx="468180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468144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268360" y="5243400"/>
            <a:ext cx="4681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976320" y="1133640"/>
            <a:ext cx="7191360" cy="4590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476360" y="3227400"/>
            <a:ext cx="5327640" cy="849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1476360" y="4192560"/>
            <a:ext cx="5327640" cy="849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5327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81160" y="1281240"/>
            <a:ext cx="8581680" cy="4295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633600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63360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633564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1116000" y="4508640"/>
            <a:ext cx="63356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971640" y="5013360"/>
            <a:ext cx="63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85840" y="1781280"/>
            <a:ext cx="8572320" cy="3295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826920" y="296856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826920" y="397656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504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85840" y="771480"/>
            <a:ext cx="8572320" cy="5315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826920" y="244944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4968720" cy="792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9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39640" y="4595760"/>
            <a:ext cx="4969080" cy="792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611280" y="5487840"/>
            <a:ext cx="74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04840" y="1405080"/>
            <a:ext cx="8734320" cy="40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900000" y="269388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11280" y="4292640"/>
            <a:ext cx="561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11280" y="4797360"/>
            <a:ext cx="561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864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0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